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39961"/>
        <c:axId val="75398336"/>
      </c:barChart>
      <c:catAx>
        <c:axId val="93239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98336"/>
        <c:crosses val="autoZero"/>
        <c:auto val="1"/>
        <c:lblAlgn val="ctr"/>
        <c:lblOffset val="100"/>
        <c:noMultiLvlLbl val="0"/>
      </c:catAx>
      <c:valAx>
        <c:axId val="75398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39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B05-D8A5-454A-88B6-210032F4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D1D-A092-41BF-BC22-C1FA1181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478-258D-4444-A05B-C485018A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7F0-2775-491F-AA1F-494154D6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CA5-3EB5-4210-8E01-07115251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E51-7245-449E-B9FC-35A2CB14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AEC-E507-497C-B8D1-AEC21EFD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6DF-1D0E-4435-BFBA-8668190D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501-A84E-4922-BB9E-27C65937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876-145D-4D93-9CD1-B680ACCD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42F-2DE7-4ADB-BB57-DD441BAF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83C-E99E-4727-A283-89F3A9D6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EB0AB-A5EE-46AD-BE43-AE7123F263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