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294591"/>
        <c:axId val="54689421"/>
      </c:barChart>
      <c:catAx>
        <c:axId val="352945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689421"/>
        <c:crosses val="autoZero"/>
        <c:auto val="1"/>
        <c:lblAlgn val="ctr"/>
        <c:lblOffset val="100"/>
        <c:noMultiLvlLbl val="0"/>
      </c:catAx>
      <c:valAx>
        <c:axId val="546894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2945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9FBD-D20D-4AEC-A940-AA15A39C2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E6B8-3933-4581-8A28-1832736F7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810F-13F0-4013-BBC6-771389E79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175A-5750-4A06-AD05-FA558F0A2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F904-0F5A-4F07-86DE-E9037BC6F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4A2B-3FD5-4292-A8E4-ECB0B47AC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9D1B-F3FC-4454-A4A3-0446C8FA2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197F-7DAB-47B2-AF57-E5E918BA1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FAF3-2CC5-44EB-AA42-71B8E9CD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B89F-AD75-40BC-A429-5D63CE4A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BAB2-AA6D-4C5C-9FC9-18356764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0385-F7D3-4B52-934B-388FD73F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248720-C76E-4A27-9772-5807EBAB6FB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