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65685"/>
        <c:axId val="78141185"/>
      </c:barChart>
      <c:catAx>
        <c:axId val="22865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41185"/>
        <c:crosses val="autoZero"/>
        <c:auto val="1"/>
        <c:lblAlgn val="ctr"/>
        <c:lblOffset val="100"/>
        <c:noMultiLvlLbl val="0"/>
      </c:catAx>
      <c:valAx>
        <c:axId val="78141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65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192-E713-487C-B619-2DA38020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415D-49FC-4D51-88B3-F9423FCA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EB9-BB67-44BC-A096-1846861A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D17-7985-4A2D-B836-DD7615E6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A81-0926-4C72-807A-8004BE57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AE5-CDC4-4356-903A-D4BA8C80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038-25E2-4FA9-B239-D2955410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541-D668-44A5-BE95-B0E4E6EE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4D0-50D2-4A5E-8C02-3D29180D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CA5-24A8-42C2-8884-A4D9FFFE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C9C-0E99-4D42-BF57-3339A4B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593-7C83-4DD7-A5F9-8972E76B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060C5-5C68-49D6-A71D-307CBEF927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