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5234"/>
        <c:axId val="14118641"/>
      </c:barChart>
      <c:catAx>
        <c:axId val="3235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8641"/>
        <c:crosses val="autoZero"/>
        <c:auto val="1"/>
        <c:lblAlgn val="ctr"/>
        <c:lblOffset val="100"/>
        <c:noMultiLvlLbl val="0"/>
      </c:catAx>
      <c:valAx>
        <c:axId val="14118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35E-1EE0-47FA-95D2-FEC692CA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14D-BC42-4B8A-A62A-35BF8850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F74-9087-474B-A0E6-9EB530D6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702-403A-47C9-8332-1C2D0C90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453-A77C-4BB3-ABFC-F130C1C9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054-B2B0-4E65-BF30-5AC1317F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983-0FC3-48FE-B248-E262C35B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D14-CC18-43C6-ADD9-A57360AB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5C4-5907-4116-A81C-F44A951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107-F0A7-42D8-AA27-0BD3A60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DED-F849-4A47-8313-EE80C51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5AA-2247-4396-AB50-C75C83A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F081C-5D64-4BEE-BCB1-53FDAB8055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