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1634"/>
        <c:axId val="259198"/>
      </c:barChart>
      <c:catAx>
        <c:axId val="5881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198"/>
        <c:crosses val="autoZero"/>
        <c:auto val="1"/>
        <c:lblAlgn val="ctr"/>
        <c:lblOffset val="100"/>
        <c:noMultiLvlLbl val="0"/>
      </c:catAx>
      <c:valAx>
        <c:axId val="259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AB8-5E77-444A-A467-564738E7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2D2-583F-4B32-80A8-9C0447A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8D8-9BA0-490B-8D06-9274C181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798-7D84-486A-A5D8-84DB1FAB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F16-1708-47A3-A022-29B66342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BCD-3A4B-4260-8F3A-A3AC4633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8CA-80BF-46DF-8C3A-BF73F13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024-E8C7-4CAC-874D-B29EAAAC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E1D-E5D3-4883-B7FF-0954BC2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01F-55AA-4EF3-92AB-C86176B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81B-39A0-43E5-BC39-FAF20E9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DB8-0B2B-4F34-8982-74E2997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BA5A6-8626-4C6E-83AF-CD9DEBABEE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