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74862"/>
        <c:axId val="20915776"/>
      </c:barChart>
      <c:catAx>
        <c:axId val="18574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15776"/>
        <c:crosses val="autoZero"/>
        <c:auto val="1"/>
        <c:lblAlgn val="ctr"/>
        <c:lblOffset val="100"/>
        <c:noMultiLvlLbl val="0"/>
      </c:catAx>
      <c:valAx>
        <c:axId val="20915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74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B78-F2BD-4A2F-B040-1C1130D7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D9C-DF2A-4BC9-9AB2-D187A4F1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BE2-5C39-4AF0-9834-96BB0141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C9F-44ED-47E7-8B54-5A190BD8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19F-CBE5-493F-9CDE-1173ACB8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64B-8122-4FF0-9CF6-647B75E4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2C9-190A-45DC-85C3-C527649A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C35-F1E8-4311-9CBF-269C4E90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851-9191-476C-9C7A-8B6D0124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DCB-696B-4F91-9BED-DCC6C53B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F0A-3732-416C-8B06-41739D69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4C3-7F14-487E-BAB2-7685C622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4B60F-5889-4894-AEF8-9B07323CF7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