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47588"/>
        <c:axId val="68311196"/>
      </c:barChart>
      <c:catAx>
        <c:axId val="57747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11196"/>
        <c:crosses val="autoZero"/>
        <c:auto val="1"/>
        <c:lblAlgn val="ctr"/>
        <c:lblOffset val="100"/>
        <c:noMultiLvlLbl val="0"/>
      </c:catAx>
      <c:valAx>
        <c:axId val="68311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47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6A0-E1C2-4107-BE68-7324323F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D47-2694-4E9E-9280-0836D5E6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BBA0-9DA5-45DA-B4AD-7A4057C2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465-58CE-44ED-897F-E36F23B9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474-A661-40F8-BAFC-14C2F61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334-7A31-4222-8728-6F41C5F0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546-C5BB-4EF1-AF2D-93F83D68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8C40-08B3-4699-9FC8-C0FFBB65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B03-660A-4A40-9FB1-2FC506C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DF7-6641-44E2-A910-5E448880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CCD-B75D-4C7B-A9FF-D88F4B4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D6F-AABF-4177-B099-50B85216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831E0-7E26-444A-9367-F36F2B29F9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