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215043"/>
        <c:axId val="64025198"/>
      </c:barChart>
      <c:catAx>
        <c:axId val="12215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25198"/>
        <c:crosses val="autoZero"/>
        <c:auto val="1"/>
        <c:lblAlgn val="ctr"/>
        <c:lblOffset val="100"/>
        <c:noMultiLvlLbl val="0"/>
      </c:catAx>
      <c:valAx>
        <c:axId val="640251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15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92D-597E-4243-AA7D-132315A4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013-9A6E-448B-9A83-4C23D66E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688A-ACCD-41B8-814C-2343B6DA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43F-5C2A-4549-BF78-1B586397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79F-24D7-4BC2-85E4-88ADE7C9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0F32-410B-4441-B471-B91615FD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55A-0FFB-4E06-B317-CF106D36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2AA-04E3-4A21-A59D-B3D9C87F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7DC1-AB60-453D-A9A7-4B0BB983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6276-9303-4BC7-9306-EDD9F9F4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4203-3FA6-40E6-8996-6F11E411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9DE-8685-49F4-964A-952E5B06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2514C-CC9A-4FA6-9DA6-620B6500E4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