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69722"/>
        <c:axId val="19051154"/>
      </c:barChart>
      <c:catAx>
        <c:axId val="42569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1154"/>
        <c:crosses val="autoZero"/>
        <c:auto val="1"/>
        <c:lblAlgn val="ctr"/>
        <c:lblOffset val="100"/>
        <c:noMultiLvlLbl val="0"/>
      </c:catAx>
      <c:valAx>
        <c:axId val="19051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9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8D2-CD26-4027-BAAC-92F2A82F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658-3B36-43A5-B821-00BF8E3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30A-6B60-4F83-89DF-1B570B3B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7BA-C494-47AE-888E-47F46A2F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A9F-BBF1-4101-B3DF-CB42B2A6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E2B-66E8-49EB-BE16-EB093DC8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735-BDC7-4241-8C14-2DE4A759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6F3-5187-4679-8C16-CA770AE8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35D-08AA-490D-B8D1-442FDA3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CD4-7995-4AF5-BA4D-72A16D5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BFA-6279-4B57-BF4C-239A975E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2DB-5700-4B50-B0DC-D723D31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E6E0C-55E6-4B3F-AB2F-3E2D62C70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