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73636"/>
        <c:axId val="75223034"/>
      </c:barChart>
      <c:catAx>
        <c:axId val="39273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23034"/>
        <c:crosses val="autoZero"/>
        <c:auto val="1"/>
        <c:lblAlgn val="ctr"/>
        <c:lblOffset val="100"/>
        <c:noMultiLvlLbl val="0"/>
      </c:catAx>
      <c:valAx>
        <c:axId val="75223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73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FD8-35A7-4051-928F-5CFC558A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67B-B4DE-4FC0-968C-6FC8CC36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17B-0C8F-4329-AD51-5D626DE1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F54-EE48-4B59-A75C-BE9DA014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9DC-76D5-4360-8911-BA7D60BC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16A-3F55-4AA1-9345-8EC71CF0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4DB-E0D2-487B-A4B1-BC04BA50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4BA-F692-4F38-BE9A-EE72F4C2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5B1-FEB4-41A7-A9DA-581C715D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265-D2FB-4EFA-AB74-D6E7BCD5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7E0-E2CB-4628-8B23-6FBAC806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055-52CF-4A9C-B721-0753CD79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46169-021E-430F-BA1D-4F86FA6379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