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81032"/>
        <c:axId val="41979552"/>
      </c:barChart>
      <c:catAx>
        <c:axId val="48581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79552"/>
        <c:crosses val="autoZero"/>
        <c:auto val="1"/>
        <c:lblAlgn val="ctr"/>
        <c:lblOffset val="100"/>
        <c:noMultiLvlLbl val="0"/>
      </c:catAx>
      <c:valAx>
        <c:axId val="419795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81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0391-9001-4131-95FE-90642DB6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84A7-7741-4D82-A915-1104AA5A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AE8-824E-4BE2-B244-F857E55B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A16C-A659-416B-8C46-E3A2E75F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3AF-02DB-42A4-B0C2-9C33D7FB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0D06-78E4-472B-BA9B-85DA5852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29DF-6274-42FE-B11C-D2069383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7A8-6799-4B1C-B361-EA6FC954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5563-5F7E-4889-8FC8-6E886BB6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7C3F-73C2-426F-BEF6-9DE06C7A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17E9-2858-433F-B6A2-52618A4E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DBB-F4E2-471F-A2DD-9C3DC871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EEC26-3440-4188-9B6C-0FCA5D4768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