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7363"/>
        <c:axId val="87086275"/>
      </c:barChart>
      <c:catAx>
        <c:axId val="25647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6275"/>
        <c:crosses val="autoZero"/>
        <c:auto val="1"/>
        <c:lblAlgn val="ctr"/>
        <c:lblOffset val="100"/>
        <c:noMultiLvlLbl val="0"/>
      </c:catAx>
      <c:valAx>
        <c:axId val="87086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7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E5C-0B87-4A31-B119-5143902D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7F0-D00D-413E-81DE-B3EB364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096-21F1-4B4D-A468-575EDC7A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145-4FF9-4DA8-9A59-A8254F2C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256-13D0-4A57-BC03-4E23F7D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D42-0FCE-4046-B4C5-8912A8C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AE7-312B-4F1F-81F9-2AA4E228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D6E-5651-4F2D-835D-CEDB71C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AA8-2E97-4595-9A65-837BAA31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CDD-399F-4F7B-A1F3-C03D977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F43-4F39-4F84-AA7F-10B33A8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061-B5CC-4143-BC30-E8FB4C0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DB4F-DF09-46B0-A1CE-438272992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