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6994"/>
        <c:axId val="84357589"/>
      </c:barChart>
      <c:catAx>
        <c:axId val="7106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357589"/>
        <c:crosses val="autoZero"/>
        <c:auto val="1"/>
        <c:lblAlgn val="ctr"/>
        <c:lblOffset val="100"/>
        <c:noMultiLvlLbl val="0"/>
      </c:catAx>
      <c:valAx>
        <c:axId val="843575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6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2932-40CE-45C6-BCA8-E24538FE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6F0A-B757-468F-872D-0E813E324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DC31-16CE-4305-8967-92BC12F4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6650-C15F-4BC3-B614-2BECF0D1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50B-8E10-4158-B7C3-8E1BC911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EA0-3D47-4439-9F5B-0719B063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933-8F3C-4147-A546-BE2C7F98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9CE-E2E1-4D5E-9EB7-BB4F9DC7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BA0-F373-42E8-AA9B-2C93273F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3A0C-02A5-441C-80C6-0C9C61A3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595-EA3C-4028-A164-818CF98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C3D4-BAB6-4162-8146-AF1E9C54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46EA7-DE6C-418F-9BA6-6F1ED5DB26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