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79989"/>
        <c:axId val="64024211"/>
      </c:barChart>
      <c:catAx>
        <c:axId val="12879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4211"/>
        <c:crosses val="autoZero"/>
        <c:auto val="1"/>
        <c:lblAlgn val="ctr"/>
        <c:lblOffset val="100"/>
        <c:noMultiLvlLbl val="0"/>
      </c:catAx>
      <c:valAx>
        <c:axId val="64024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9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B91-470C-4E0C-8F4B-77820846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8B7-93FF-4C8B-953D-E47803D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293-51A4-4C6E-B6D6-2AAD1D43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CE2-DA18-4299-85BD-626BF801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B8B-1B55-45AF-A122-3B3CE3CE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880-49C5-4BDC-BEEC-618742C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29A-2E78-4C43-8E7A-2485424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9FC-2D49-456F-9FE6-BEF69161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E64-97CE-48AC-BB6E-894E0E27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54D-A322-49B4-B81B-9EAED95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8EA-F9CC-4B48-BE9D-15221CE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84C-B8EF-48ED-AEAA-7488E1D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C3803-37FF-47EC-B739-D6077790D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