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25509"/>
        <c:axId val="85535982"/>
      </c:barChart>
      <c:catAx>
        <c:axId val="63625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35982"/>
        <c:crosses val="autoZero"/>
        <c:auto val="1"/>
        <c:lblAlgn val="ctr"/>
        <c:lblOffset val="100"/>
        <c:noMultiLvlLbl val="0"/>
      </c:catAx>
      <c:valAx>
        <c:axId val="85535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25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B66-C835-4BD4-B3B9-DE8B98E5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49C-8ECD-438D-BA8D-2A4FA7DC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187-5F6C-48DC-A334-3C045C5F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FF0-4658-4EE0-9222-67CCEC7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CE0-751B-4257-A8A9-0DF9427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D9C-3D32-4AC4-95D8-463E7B9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D8D-3270-4FB2-AFB5-F9CE3AE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563-476B-40F1-9B3B-A997979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113-27B6-42D9-9B00-1E34235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E1A-D99B-4F8A-9E8F-A02DC3D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9F5-0760-487A-8404-BE8D9CD5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24-C038-4C2E-9566-8F5EFC7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24E23-9C12-4605-AE78-FBC9F0E2D8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