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47122"/>
        <c:axId val="80765699"/>
      </c:barChart>
      <c:catAx>
        <c:axId val="184471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65699"/>
        <c:crosses val="autoZero"/>
        <c:auto val="1"/>
        <c:lblAlgn val="ctr"/>
        <c:lblOffset val="100"/>
        <c:noMultiLvlLbl val="0"/>
      </c:catAx>
      <c:valAx>
        <c:axId val="80765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471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8B2-ED0B-4A6C-99A1-AD5C3AEC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56E8-F6C8-4656-965C-BEBB512C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794-CBE3-4109-B7A3-7DBD9FCF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A08-D9AD-4F21-A869-5BC13C3A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504-1456-49E6-AF87-C247A1D0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670-89B0-46B1-99D3-33528082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BDC-36AF-4CAB-88BC-E930C78A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DFBC-9823-4E18-A7EC-AB8420A0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28B-0E19-49C5-ACBB-F2799F88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0D98-D53C-4A7F-AB0B-A36F71A2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01E3-9481-4796-81D3-87DF417B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74FD-48C6-484B-8697-D94CF52B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1A7E2-9AEC-48EA-BBB9-A51BB8C581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